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526-585C-4FB3-9265-92D6257E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726-EFFD-4BF1-949E-E8E4D838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A8F-B1BA-4CB4-B6A1-3EFCFA02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13A-262C-4376-9105-A26CE91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8747-52E3-4D47-B912-C2EA9261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087F-5BEC-4E91-B445-CB83005F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FE8-9254-4716-9923-21D0EF8B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45D5-673D-4E1D-A2D0-A857EF38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2B0E-24BE-4AA1-BB73-9E028D36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1580-DDAE-4177-B51F-233A0BD4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62C9-3AB3-4F8E-87A0-F91085E6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433-E926-4DE7-988D-6799E76A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98DF-FE33-4E0D-A612-3F30687A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0008-72D7-4FD2-9EBB-8DFCB84E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3008-AE78-4FC8-8C4A-73C16E28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F38E-ABEA-4359-8C86-BF5FF245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F113-E028-4892-A5FA-43DE78FD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089-7A7B-4DDB-B694-7B31470D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64CD-4D84-48BE-B822-258AD871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E9D-53BB-43B4-BDD7-CA6A09C8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562-13A1-4D10-9740-A4BDBF4B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A0CE-2D4B-46CC-A19B-E816C19A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9C0-2320-42E6-BDB8-D2640D42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19D-3BA2-4475-A3D5-1E6385F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461B-3E74-4E37-A2C2-AA39F4CF8C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8736-938F-46DB-AB75-CB4CC605638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ase del Espano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mic"/>
              </a:rPr>
              <a:t>By : JESSE an KEYSHAW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r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42861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 fami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m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man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rma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ima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at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rprient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r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z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a ho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3429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mi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mburges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zz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p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atch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2934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umerdos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39:34Z</dcterms:created>
  <dc:creator>WSFCS Workstation</dc:creator>
  <dc:description/>
  <dc:language>en-US</dc:language>
  <cp:lastModifiedBy>WSFCS Workstation</cp:lastModifiedBy>
  <dcterms:modified xsi:type="dcterms:W3CDTF">2010-04-28T18:59:57Z</dcterms:modified>
  <cp:revision>2</cp:revision>
  <dc:subject/>
  <dc:title>Clase del Espanol</dc:title>
</cp:coreProperties>
</file>